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504-7234-479A-8456-9116452B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5A7-9DB3-439B-92B8-837FEC98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B17-6CA3-4413-A4BE-AF411E29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276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80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8276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880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965-C616-4FB4-8880-F5F6C8D8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056B-0DC4-4DC2-BE2C-A183F82A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D638-B247-4026-922C-276CC111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149D-962E-4241-B792-62DBB0AA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3851-ADE5-4323-85F2-0076E54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8D3C-3864-49EE-8DC8-79DCA08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9AD-D3B1-47E5-AD1C-30934728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AA3-BDA5-4157-ACDD-E8A94AA6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AA9-010E-404E-9418-924F1DB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D140-CD2B-4644-B506-76780BFB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33C1-EB6E-49EC-841F-5F83E53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60DC-74EA-4FB4-B68C-65E660F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44BF-F6BF-42AF-80DF-27546565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276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80440" y="198108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28276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880440" y="4130640"/>
            <a:ext cx="15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EBBE-EBA2-404F-A131-926DBDFD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041-0615-4C04-A279-B47F3639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6E8-C6A1-4AD0-B608-DA68FA29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EAA-BF98-4484-9A4E-6449D59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89D-0991-4C17-9AFC-D962F0B8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034-90A6-4F69-807F-015BEFC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106440" y="413064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B2B-621F-41B5-B514-5E3E75D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06440" y="1981080"/>
            <a:ext cx="23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472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40A-2BE1-4B20-B741-4877F9D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:\Cartoons\Women1\GC000652.WMF"/>
          <p:cNvPicPr/>
          <p:nvPr/>
        </p:nvPicPr>
        <p:blipFill>
          <a:blip r:embed="rId2"/>
          <a:stretch/>
        </p:blipFill>
        <p:spPr>
          <a:xfrm>
            <a:off x="4191120" y="3965400"/>
            <a:ext cx="4952880" cy="289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7C5-D44C-43B1-9D93-FF68634A27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A31-F91D-4D08-AC1A-204AC7A4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8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Cartoons\Women1\GC000648.WMF"/>
          <p:cNvPicPr/>
          <p:nvPr/>
        </p:nvPicPr>
        <p:blipFill>
          <a:blip r:embed="rId2"/>
          <a:stretch/>
        </p:blipFill>
        <p:spPr>
          <a:xfrm>
            <a:off x="0" y="4313160"/>
            <a:ext cx="5562720" cy="25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4491-741B-4063-8ED2-00D099B8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ikisatholyfamily.wikispaces.com/home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oltoolsforschools.wikispaces.com/" TargetMode="External"/><Relationship Id="rId2" Type="http://schemas.openxmlformats.org/officeDocument/2006/relationships/hyperlink" Target="http://gettingtrickywithwikis.wikispaces.com/" TargetMode="External"/><Relationship Id="rId3" Type="http://schemas.openxmlformats.org/officeDocument/2006/relationships/hyperlink" Target="http://perkupprojects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imoto.com/business/education" TargetMode="External"/><Relationship Id="rId2" Type="http://schemas.openxmlformats.org/officeDocument/2006/relationships/hyperlink" Target="http://blabberize.com/" TargetMode="External"/><Relationship Id="rId3" Type="http://schemas.openxmlformats.org/officeDocument/2006/relationships/hyperlink" Target="http://www.gimp.org/" TargetMode="External"/><Relationship Id="rId4" Type="http://schemas.openxmlformats.org/officeDocument/2006/relationships/hyperlink" Target="http://www.loonapix.com/" TargetMode="External"/><Relationship Id="rId5" Type="http://schemas.openxmlformats.org/officeDocument/2006/relationships/hyperlink" Target="http://www.magtoo.com/" TargetMode="External"/><Relationship Id="rId6" Type="http://schemas.openxmlformats.org/officeDocument/2006/relationships/hyperlink" Target="http://www.makebeliefscomix.com/" TargetMode="External"/><Relationship Id="rId7" Type="http://schemas.openxmlformats.org/officeDocument/2006/relationships/hyperlink" Target="http://www.wordle.net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milebox.com/" TargetMode="External"/><Relationship Id="rId2" Type="http://schemas.openxmlformats.org/officeDocument/2006/relationships/hyperlink" Target="http://www.fotoflexer.com/" TargetMode="External"/><Relationship Id="rId3" Type="http://schemas.openxmlformats.org/officeDocument/2006/relationships/hyperlink" Target="http://shapecollage.com/" TargetMode="External"/><Relationship Id="rId4" Type="http://schemas.openxmlformats.org/officeDocument/2006/relationships/hyperlink" Target="http://easybib.com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ikis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Web 2.0 Tools, Moviemaker and More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743200" y="3657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ss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ki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62120" y="1828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ikisatholyfamily.wikispaces.com/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2.0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8284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1"/>
              </a:rPr>
              <a:t>http://cooltoolsforschool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2"/>
              </a:rPr>
              <a:t>http://gettingtrickywithwiki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  <a:hlinkClick r:id="rId3"/>
              </a:rPr>
              <a:t>http://perkupprojects.wikispace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animoto.com/business/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blabberize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www.gimp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www.loonapix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http://www.magtoo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http://www.makebeliefscomix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ww.wordl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3160" y="533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www.smilebox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fotoflexer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http://shapecollage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http://easybib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tinyurl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torybird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netruemedia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maker Tutori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ovies.atomiclearning.com/k12/moviemaker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maker How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icrosoft.com/windowsxp/using/moviemaker/default.m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8:52:44Z</dcterms:created>
  <dc:creator>rparmigiani</dc:creator>
  <dc:description/>
  <dc:language>en-US</dc:language>
  <cp:lastModifiedBy>rparmigiani</cp:lastModifiedBy>
  <cp:lastPrinted>2010-09-08T02:48:30Z</cp:lastPrinted>
  <dcterms:modified xsi:type="dcterms:W3CDTF">2011-09-13T19:34:33Z</dcterms:modified>
  <cp:revision>13</cp:revision>
  <dc:subject/>
  <dc:title>Wiki’s Web 2.0 Tools, Moviemaker and More….</dc:title>
</cp:coreProperties>
</file>